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422-E672-427E-859D-8FAB7BCA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4B0-5F1B-4C60-846F-2249A2AD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5D4-1255-47E4-8B19-4CCD72D9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256D-8302-47E9-AF6E-E92795B1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1361-5E72-48C7-B3BF-E546BEB4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896-2FEE-4B2E-9627-CDD1AEE4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0E6-506F-41E2-A130-3F521875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E53-ED0B-4F26-9199-AAE9D31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D642-C6EA-4FC3-A680-094E06FF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5AF6-773A-4B8C-B9BB-D5EACF83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BA2-9E3A-4E45-8F11-54CC65D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80F-0098-4FDE-92D9-AA23ADF6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BC3E-F98C-4F98-A565-1DB10529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Writing%20Algebraic%20Expressions%20PP1.notebook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Writing%20Algebraic%20Expressions%20PP2.notebook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Evaluate%20if%20x%20is%2010.notebook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91280" cy="419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343400"/>
            <a:ext cx="81536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9900"/>
                </a:solidFill>
                <a:latin typeface="Comic Sans MS"/>
              </a:rPr>
              <a:t>ALGEBRA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lgebraic Express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se Wor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 more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decrease by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less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umber increased by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m of a number &amp;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 more than a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236232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30481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-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-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680" y="43434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680" y="49528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55627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n +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840" y="1413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Algebraic Express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se Word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plu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decrease by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1 less than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umber increased by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um of a number &amp;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more than a nu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82760" y="2133720"/>
            <a:ext cx="12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2819520"/>
            <a:ext cx="161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9800" y="3505320"/>
            <a:ext cx="136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- 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9080" y="4114800"/>
            <a:ext cx="12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9080" y="4800600"/>
            <a:ext cx="12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55468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imes New Roman"/>
              </a:rPr>
              <a:t>n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880" y="12603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each algebraic expression when x =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+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-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2 -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Table by Sub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73360" y="2660760"/>
          <a:ext cx="4091040" cy="3801960"/>
        </p:xfrm>
        <a:graphic>
          <a:graphicData uri="http://schemas.openxmlformats.org/drawingml/2006/table">
            <a:tbl>
              <a:tblPr/>
              <a:tblGrid>
                <a:gridCol w="2046240"/>
                <a:gridCol w="204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- 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487480" y="34290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7480" y="41911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480" y="49528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3868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34720" y="1676520"/>
            <a:ext cx="70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f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5 would be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– 5 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This Table Using Substitu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673360" y="2660760"/>
          <a:ext cx="4091040" cy="3801960"/>
        </p:xfrm>
        <a:graphic>
          <a:graphicData uri="http://schemas.openxmlformats.org/drawingml/2006/table">
            <a:tbl>
              <a:tblPr/>
              <a:tblGrid>
                <a:gridCol w="2046240"/>
                <a:gridCol w="2044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+ 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41080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80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800" y="4876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563868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Write an Algebraic Expression for These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’s brother is 2 year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younger th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su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wo numbers is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dif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etween two numbers is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34280" y="3048120"/>
            <a:ext cx="11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s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3360" y="4648320"/>
            <a:ext cx="24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x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y = 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8640" y="6095880"/>
            <a:ext cx="233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m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 n =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ari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variable is a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letter or symbo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hat represents a numb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variable can use any letter of the alphab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 3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effic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 number or symbol multiplied with a variable or an unknown quantity in an algebraic term, as 4 in the term 4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lls us how MANY variab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efficient.  It tells us there are 3 x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lgebraic expres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a group of numbers, symbols, and variables that express an operation or a series of oper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 +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r –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f = 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+ 8 =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d =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– 6 = 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ify – Combine like terms and complete all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 if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 =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3 + 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2 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+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4 + 3 = 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hat Mean Ad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733560" cy="267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6600" y="384120"/>
            <a:ext cx="79279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rds That Mean Sub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rea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3200400" cy="28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admin</cp:lastModifiedBy>
  <dcterms:modified xsi:type="dcterms:W3CDTF">2008-03-09T12:39:29Z</dcterms:modified>
  <cp:revision>10</cp:revision>
  <dc:subject/>
  <dc:title>Algebra I</dc:title>
</cp:coreProperties>
</file>